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6.wmf" ContentType="image/x-wmf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1768-17C4-4145-AE3B-B2D7BE695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1865-1A8B-4835-84F5-2CA5F11A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4B12-B60C-4048-9AEA-F74568372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779C-1222-45C8-A636-4C1EAECDC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C1C5-67C9-46F3-9B10-ECD70700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72A7-D185-43AE-A788-F24608AD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F7ED-0F49-4E53-A82B-75024B45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1AAE-951B-449D-BA9F-2FE29A37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4FAE-C45B-4B13-8C10-042FC62B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CC80-0444-4045-B7A4-7FDB7AD9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3775-4B58-4BF3-85C7-75C16CC6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1FBB-29EE-458B-9958-C8BA79D7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2881-40DA-4C32-8D06-750B0BF98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7.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ications of Linear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22096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pplications of Linea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60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4724280" cy="600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09480" y="2438280"/>
            <a:ext cx="4876920" cy="736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80880" y="6019920"/>
            <a:ext cx="7848720" cy="608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880" y="6019920"/>
            <a:ext cx="7772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09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28600" y="6176880"/>
            <a:ext cx="8153280" cy="452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920" y="6172200"/>
            <a:ext cx="78483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381880" cy="1274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209680" y="2590920"/>
            <a:ext cx="1371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220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09480" y="2286000"/>
            <a:ext cx="7315200" cy="1673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04920" y="4191120"/>
            <a:ext cx="845820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1344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5791320" cy="841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2590920"/>
            <a:ext cx="5638680" cy="1352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228600" y="5867280"/>
            <a:ext cx="7848720" cy="392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5867280"/>
            <a:ext cx="76960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51055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3809880"/>
            <a:ext cx="36576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s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What did you find most difficult about writing systems of equations to solve word probl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*Remember to date and highlight this entry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89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80880" y="5486400"/>
            <a:ext cx="6096240" cy="976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80880" y="5486400"/>
            <a:ext cx="60199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21:52:17Z</dcterms:created>
  <dc:creator>Susannah Graham</dc:creator>
  <dc:description/>
  <dc:language>en-US</dc:language>
  <cp:lastModifiedBy>BRSD</cp:lastModifiedBy>
  <dcterms:modified xsi:type="dcterms:W3CDTF">2010-04-12T13:13:31Z</dcterms:modified>
  <cp:revision>4</cp:revision>
  <dc:subject/>
  <dc:title>Lesson 7.4 Applications of Linear Systems</dc:title>
</cp:coreProperties>
</file>